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DA9A-CD4C-43C2-9124-DC1B9CD6CE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7969-F07D-4CD7-B0CC-8B7C70004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61BD-38BA-4DD3-9417-6416FD1076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4FB1-D5FE-4978-8E27-E45F989DE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59B-4544-421D-8D0F-B8C3343478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B9A-EA4C-4CD1-9910-E668002EC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8E7-687F-4C1F-906F-D81E34D3F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EBE-2653-44F9-99F7-DFF49B971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8E9B-8B8F-4444-A152-587DE67B2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D91-E254-4BA3-9F42-D094F1521B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81A5-B4FC-43D0-8428-D39F3665A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861F-6BD5-4CBF-B6BF-EC0CBCC632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3A6C1-8CA2-46C8-8E85-1D85FABAE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0889-7009-4151-9681-718964D0A7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4198-EEEB-4AAF-A27C-1C8E40E98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635-3A3E-46BA-AC03-76C4D1FE9D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838B-CDFD-41AB-8D2D-18E60453D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D562-D2E6-4A88-9A2E-EBB3D572C9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C5EF-B104-4DB3-A91A-B365C542F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EC1-7F8B-47A0-AC46-FBF8725B56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BE02E-CDE5-4279-B3A7-0BB876893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FF9-3495-4471-997C-761C13DCB9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BF1-B79D-4ED7-BC1E-364BF7C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980-058B-4A16-A9B7-4343FD09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4B5-C527-4097-96B1-628348E3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657-D634-4E05-9324-8908C14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DF1-036D-41DF-9E05-3EC84BF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811-D339-4580-A2F9-9816006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5CE-2290-4C19-BFFD-4EB8E54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C49-7E1C-4EF7-9355-E788A41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95E-1FC8-439F-8168-27FF877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BA2-9C4B-4BF3-BE71-CE70DF18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6AE-E3FF-44C3-931D-229B0B4C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A4-2ECE-43C9-B19A-A7494BE1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661-4303-490C-9086-393E52BF57D9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609480" y="2011320"/>
            <a:ext cx="8285400" cy="47307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/>
            <a:ahLst/>
            <a:rect l="l" t="t" r="r" b="b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/>
            <a:ahLst/>
            <a:rect l="l" t="t" r="r" b="b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/>
            <a:ahLst/>
            <a:rect l="l" t="t" r="r" b="b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/>
            <a:ahLst/>
            <a:rect l="l" t="t" r="r" b="b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/>
            <a:ahLst/>
            <a:rect l="l" t="t" r="r" b="b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5T19:38:44Z</dcterms:modified>
  <cp:revision>391</cp:revision>
  <dc:subject/>
  <dc:title>Low-carbon growth in Brazil?</dc:title>
</cp:coreProperties>
</file>